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046-2DBB-47E2-91E7-146A9DEB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7AC-8460-49C6-A5E1-A485E027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EC8-F1B0-476A-8C94-906CB245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A9E-096E-4E2F-ACCC-C74D88DB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1C6-8F71-48CE-B45D-37B567D3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D40-01AA-4BEB-862E-0533A35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09E-F826-4B4B-B93A-6785B9C3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B3D-8643-48D7-859C-7A85201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133-F8F6-4960-8639-6A98617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146-7A16-480B-A7AD-6DDA926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B89-A695-4707-9883-10C0EC2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4C7-5125-4641-B99B-0DC48AD2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1946-DEAD-4F59-9BC5-77539FC0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62064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rchitecture 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02240" y="1767240"/>
            <a:ext cx="5269680" cy="5269680"/>
            <a:chOff x="1902240" y="1767240"/>
            <a:chExt cx="5269680" cy="5269680"/>
          </a:xfrm>
        </p:grpSpPr>
        <p:sp>
          <p:nvSpPr>
            <p:cNvPr id="44" name="_s2060"/>
            <p:cNvSpPr/>
            <p:nvPr/>
          </p:nvSpPr>
          <p:spPr>
            <a:xfrm>
              <a:off x="2608200" y="2473560"/>
              <a:ext cx="385776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1"/>
            <p:cNvSpPr/>
            <p:nvPr/>
          </p:nvSpPr>
          <p:spPr>
            <a:xfrm rot="7200000">
              <a:off x="2608200" y="247320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3"/>
            <p:cNvSpPr/>
            <p:nvPr/>
          </p:nvSpPr>
          <p:spPr>
            <a:xfrm rot="14400000">
              <a:off x="2607840" y="247284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5340240" y="300996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9"/>
            <p:cNvSpPr/>
            <p:nvPr/>
          </p:nvSpPr>
          <p:spPr>
            <a:xfrm>
              <a:off x="3951360" y="5421240"/>
              <a:ext cx="117612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2"/>
            <p:cNvSpPr/>
            <p:nvPr/>
          </p:nvSpPr>
          <p:spPr>
            <a:xfrm>
              <a:off x="2557440" y="301140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7:28:37Z</dcterms:created>
  <dc:creator>Invitado</dc:creator>
  <dc:description/>
  <dc:language>en-US</dc:language>
  <cp:lastModifiedBy>Invitado</cp:lastModifiedBy>
  <dcterms:modified xsi:type="dcterms:W3CDTF">2006-09-21T17:38:40Z</dcterms:modified>
  <cp:revision>2</cp:revision>
  <dc:subject/>
  <dc:title>Diapositiva 1</dc:title>
</cp:coreProperties>
</file>